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CF05-641A-44FD-B654-896367DD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EC34-9572-4C4A-B353-FD163F91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335E-9C1F-4EFB-9310-A4F5E54A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C98B-4D2A-4AD8-B1AE-DBFB509C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0671-FE3A-4EE7-9F04-29CC2138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BE98-46C8-4259-8F5E-66E24A8B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7356-79DE-4614-A659-7F2E918A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2512-A5C5-419B-AB44-4B7727D6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85F1-E58E-4F04-BC44-4BC57E71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9637-CF32-44A2-93C2-5A817BA9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E157-9A60-4C58-B4D4-343EFC73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3B1D-4448-41BB-9377-6ED2745D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356D-D6D9-4A99-8040-1A94F565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F902-B365-4F42-84C0-007E4A48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4F11-4758-4656-8D68-59A602E3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2EF3-0E92-4798-A42A-0260D9F4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8594-CEB0-4EC7-BD2C-F84FBE5D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F7E1-2976-4710-BCA4-7B061079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E9AF-AFE3-418B-8DD1-3ECC186B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E45A-06E1-403F-81D3-75598EC8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BCA2-D79F-4492-B5A9-BBBB74F8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69BE-B41A-4B1D-A612-1C29670C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C811-B477-40A0-85F5-F48F8E24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01CF-6DE1-46C7-8C8C-020C5FE7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893A-6B69-4AE5-B9E1-11E89919BBD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EFB3-BF5C-4D84-9A62-75FC47CFEAD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ррекционно-педагогическое и социально-психологическое сопровождение обучаю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 задержкой психического разви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спитательные зада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яют задачи формирования ценностного отношения к тому или иному предмету, явлению, совершенствования моделей поведения, овладения детьми коммуникативными умениями, развития социальной активности и т.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ррекционные зада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ко ориентируют педагога на развитие психических процессов, эмоционально-волевой сферы ребенка, на исправление и компенсацию имеющихся недостатков специальными педагогическими и психологическими прием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жны быть предельно конкретными и направленными на активизацию тех психических функций, которые будут максимально задействованы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изация коррекционных задач предполагает включение в урок специальных коррекционно-развивающих упражнений для совершенствования высших психических функций, эмоционально-волевой, познавательной сфер и пр., включение заданий с опорой на несколько анализаторов и п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72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определить коррекционные задач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планировании уроков, индивидуальных и групповых занятий, проектировании программно-планирующей документации педагогу следует ответить на вопрос: «По каким направлениям будет проходить коррекционная работа на занятии в связи с изучаемым материалом?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72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мер постановк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ррекционных задач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развивать (способствовать развитию) слуховое восприятие учащихся на основе упражнений в узнавании и соотнес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корректировать зрительное восприятие на основе упражнений н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имер постановки коррекционных задач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уществлять коррекцию пространственного восприятия при соотнесении объемных геометрических тел и их контурных изображ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ствовать коррекции тонких дифференцированных движений пальцев рук при выкладывании вертикальных построек из палоче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ствовать развитию процессов памяти (узнавания) на основе использования различных анализатор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49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словия коррекционной рабо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чет социальной ситуации развития ребенка (круг общения, характер взаимоотношений в системе «взрослый-ребенок», «ребенок-ребенок»). Негативно влияют на развитие ребенка  дефицит общения, травмирующее действие социальной микросред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чет состояния здоровья (соматического и нервно-психического), повышенной утомляемости детей в процессе интеллектуальной дея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менение широкой наглядности и словесной конкретизации общих положений с большим количеством упражнений, выполнение которых опирается на прямой показ приемов реш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дание должно быть умеренной трудности, но доступным, так как на первых этапах коррекционной работы необходимо обеспечить ученику субъективное переживание успеха на фоне определенной затраты усил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11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словия коррекционной рабо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степенное сокращение помощи со стороны и постепенное повышение трудности предлагаемых для решения зад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правленность на формирование ведущей деятельности, а также других, типичных для данного возраста видов деятельности. Негативно сказывается на развитии ребенка отсутствие полноценной, соответствующей его возрасту деятельности, которая обеспечивает «присвоение» и смену ведущего вида деятельности на каждом возрастном этап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ндивидуализация обучения, ориентированная на учете индивидуально-психологических особенностей ребен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словия коррекционной рабо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ажным является активное воздействие на умственное развитие детей, а не пассивное приспособление к слабым сторонам их психи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еткое преставление о том, какую функцию у ребенка следует развивать на уроке, индивидуальном коррекционном занят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ализация комплексного подхода в процессе коррекции психических процес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истематическое отслеживание уровня развития психических процес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26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новные направления коррекционной рабо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ршенствование двигательной сферы и сенсомотор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екция отдельных сторон психи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пространственных представ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основных мыслительных опе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различных видов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екция нарушений в развитии эмоционально-личностной 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речи, овладение техникой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ширение представлений об окружающем мире и обогащение слова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екция индивидуальных пробелов в зн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86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вершенствование двигательной сферы и сенсомоторного разви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мелкой моторики кисти и пальцев ру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навыков каллиграф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артикуляционной мотори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зрительного анализа и пространственного восприятия элементов бук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тонкости и дифференцированности анализа зрительно воспринимаемых объек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умения организации и контроля простейших двигательных програм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ловия успешности сопровождения обучающихся с задержкой психического разви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в образовательном учреждении системы психолого-педагогического сопров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дивидуальных особенностей обучающихся с задержкой психическ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уществление коррекционной работы средствами учебных дисциплин и силами узких специал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дение индивидуальных и групповых коррекционных занятий общеразвивающей и предметн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49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ррекционные прие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знавание контурных, силуэтных, перечеркнутых изображений, недорисованных предме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рные изображения (найди отличи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законченные изображения (дорисуй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игурно-фоновое различие предметов, бук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нализ сложного образ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хождения сходства и различия двух изображ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ление соответствия фоновых элементов, узоров (игра «Подбери узор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членение зрительно воспринимаемого элемента буквы в фигурах сложной конфигур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хождение среди рядов повторяющихся фигур, букв их заданного сочетания; нахождение букв с заданным элемент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хождение заданного элемента в ряду бук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рисование фигур по точк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49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ррекция отдельных сторон психическ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зрительного восприятия и узна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зрительной памяти и в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обобщенных представлений о свойствах предметов (цвет, форма, велич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пространственных представлений и ори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представлений 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лухового внимания и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фонетико-фонематических представлений, формирование звукового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72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ирование пространственных представл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ирование умения ориентировки в схеме собственного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ирование ориентировки в ближайшем окружении (класс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ирование умения ориентировки на плоскости (тетрадь, книг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415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ие основных мыслительных операций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выков соотносительн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выков группировки и классификации (на базе овладения основными родовыми понятия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я работать по словесной и письменной инструкции, алгорит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я планировать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мбинаторных способ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ие различных видов мыш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наглядно-образного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словесно-логического мышления (умение видеть и устанавливать логические связи между предметами, явлениями и события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витие навыков программирования и контроля собственной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яция простейших двигательных 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умения ориентировки в зад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умения планирования этапов выполнения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основных способов самоконтроля каждого этапа выполнения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умения осуществлять словесный отчет о совершаемом действии и результа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26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ррекционные прие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инструкции к заданию, образца: «Что мне нужно сделать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каждого шага предстоящей работы: «Что я буду делать сначала? Что я сделаю потом? Что мне нужно сделать дальш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ка работы: «Сравнение с образцо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хождение и исправление ошибок: «Что нужно исправить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чевая регуляция действий: «Как я выполнял работу?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ррекция нарушений в развитии эмоционально-личностной сфе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лаксационные упражнения для мимики 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ы-драмат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ситуации усп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491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ррекционные прием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 развитию пространственно-временной ориентиро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 руку по схеме способом на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 ногу по отпечатку следов на пе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с числовыми ряд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ческие дикт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ка в схеме собственного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ка в пространстве комнаты, на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пространственного расположения элементов бук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карточек-опор с названием дней недели, месяцев, времен года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Коррекционные приемы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о развитию произвольности внима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елить  склеенные между собой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повторяющиеся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по таблице Бурдона (зачеркнуть определенные букв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обучения детей с задержкой психического развития на основе индивидуальных образовательных пр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ситуации успеха при выполнении различных заданий с постепенным повышением уровня сложности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грация обучающихся с ограниченными возможностями здоровья в среду нормально развивающихся сверст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ивизация ресурсов семьи ребенка с задержкой психическ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ррекционные приемы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развитию памя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нировка произвольного запоминания зрительно воспринимаемы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льное запоминание слухового ряда: цифр, звуков, слов, предложений, многоступенчатых инструк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 предмет среди друг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опорных сх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руирование с закрытыми глаз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адай фигуру (на ощупь с закрытыми глаз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ери третье слово (яйцо-курица (цыпленок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568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ррекционные приемы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развитию мыслительных опера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зови одним слов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ключи лишне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общи по видовому поняти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скрой объем видового понят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танови временные и причинно-следственные зависимости (продолжи предложение: Мама выключила свет, потому что 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рассказов по наблюдениям в природе, по сюжетным карти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плана текста, экскурсии, по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исание предмета по картинному пла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24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ким образом, коррекционная работа с обучающимися с ЗПР базируется на следующих составляющи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до необходимого уровня психофизиологических функций, обеспечивающих готовность к обучению: артикуляционного аппарата, фонематического слуха, мелких мышц руки, оптико-пространственной ориентации, зрительно-моторной координации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гащение кругозора детей, формирование отчетливых, разносторонних представлений о предметах и явлениях окружающей действительности, которые способствуют осознанному восприятию ребенком учеб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оритет знаниям, полученным на основе практического опыта, т.к. эти знания обогащают содержание обучения непосредственными наблюдениями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ние умений и навыков, необходимых для деятельности любого вида: ориентироваться в задании, планировать предстоящую работу, выполнять ее в соответствии с наглядным образцом и (или) словесными указаниями учителя, осуществлять самоконтроль и самооценку (общие (ключевые) компетен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иление роли общеучебных и общепознавательных способов деятельности: умения наблюдать, анализировать, сравнивать, абстрагировать, обобщать, доказывать, классифицировать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поминать произвольно и опосредованно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ширение содержания учебной деятельности, требующего от детей интеллектуального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аптация содержания учебного материала, через очищение от сложности подробностей, выделение в каждой теме базового материала, подлежащего многократному закреплению, дифференцировка заданий в зависимости от коррекционны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бор, комбинация методов и приемов обучения с целью смены видов деятельности детей, изменения доминантного анализатора, включения в работу большинства анализаторов, использование ориентировочной основы действий (опорных сигналов, алгоритмов, образцов выполнения зада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гащение и систематизация словаря и развитие речи средствами всех учебных дисцип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пределе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ие задержки психического развития употребляется по отношению к детям с минимальными органическими повреждениями или функциональной недостаточностью центральной нервной системы, а также длительно находящимися в условиях социальной деприв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держка психического развития представляет собой нарушение темпа всего психического развития при наличии значительных потенциальных возможност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нятие «ЗПР» подчеркивает временной (несоответствие уровня психического развития возрасту) и одновременно временный характер отставания (полностью или частично преодолевается под воздействием лечебных и педагогических факторов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нтексте медицинского подхода задержка психического развития рассматривается как синдром незрелости психических или психомоторных функций и как проявление замедленного созревания морфофункциональных систем мозга под влиянием неблагоприятных факто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Формы задержки психического развит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ержка психического развития конституционального происх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ержка психического развития соматогенного происх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ержка психического развития психогенного происх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ержка психического развития церебрально-органического происх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48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становка зада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дагог формулирует три типа зада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ов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пит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рекционные (коррекционно-развивающ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56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разовательные зада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яют задачи усвоения учебного программного материала, овладения детьми определенными учебными знаниями, умениями и навы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улировка задач отражает содержание занятия (конкретност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реподаватель</cp:lastModifiedBy>
  <dcterms:modified xsi:type="dcterms:W3CDTF">2015-03-14T14:21:40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