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-360" y="-11984040"/>
            <a:ext cx="360" cy="253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"/>
          <p:cNvSpPr/>
          <p:nvPr/>
        </p:nvSpPr>
        <p:spPr>
          <a:xfrm>
            <a:off x="0" y="-11984040"/>
            <a:ext cx="1440" cy="2535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0C5D3-6857-400B-98DF-AE8A0E999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90000"/>
            <a:ext cx="822492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4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6840" y="4192200"/>
            <a:ext cx="8224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EFA6F-9B10-4E48-BA92-B8B8623F7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90000"/>
            <a:ext cx="822492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1720" y="1980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6840" y="419220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1720" y="419220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69F99-B4A3-4C9A-A9B3-2FC1E8FF4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90000"/>
            <a:ext cx="822492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7840" y="198072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18840" y="198072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6840" y="419220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7840" y="419220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18840" y="419220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983D1-858A-4795-ADC8-E84906C19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1F901-9AB4-4288-A3CF-9B6CEA062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90000"/>
            <a:ext cx="822492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6840" y="1980720"/>
            <a:ext cx="82249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AD36D-9333-4664-B10B-0E3E78679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90000"/>
            <a:ext cx="822492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49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94040-5F43-4153-A9F2-42682480A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90000"/>
            <a:ext cx="822492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3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720" y="1980720"/>
            <a:ext cx="4013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5C365-0437-4C4A-8FEC-BD5F02D5B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90000"/>
            <a:ext cx="822492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9FC0D-6C34-4AB4-89F1-42BC7A2FC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6840" y="90000"/>
            <a:ext cx="8224920" cy="974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6DE38-7EEC-456C-912F-CB4F4A6A8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90000"/>
            <a:ext cx="822492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720" y="1980720"/>
            <a:ext cx="4013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6840" y="419220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F6AD3-DA57-4A7F-AFC4-1794E08D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90000"/>
            <a:ext cx="822492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6840" y="1980720"/>
            <a:ext cx="82249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E510B-C170-46E9-B61C-D5622F5D3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90000"/>
            <a:ext cx="822492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3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720" y="1980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720" y="419220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98E66-E3E4-49F1-9152-555F9510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90000"/>
            <a:ext cx="822492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720" y="1980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6840" y="4192200"/>
            <a:ext cx="8224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6F6D1-D4D7-41D3-B37E-1D269273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90000"/>
            <a:ext cx="822492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4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6840" y="4192200"/>
            <a:ext cx="8224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D5CFA-EAE6-4D05-87D5-98D817AE1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90000"/>
            <a:ext cx="822492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720" y="1980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419220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720" y="419220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34302-3403-4BC4-812E-8603B4334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90000"/>
            <a:ext cx="822492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7840" y="198072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840" y="198072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6840" y="419220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7840" y="419220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840" y="419220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C7EE8-78AE-4110-97D1-37A754656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90000"/>
            <a:ext cx="822492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49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AFB6E-B411-4E68-A507-B95AF4157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90000"/>
            <a:ext cx="822492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3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1720" y="1980720"/>
            <a:ext cx="4013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C031A-B048-40B0-A95B-83E5442CF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90000"/>
            <a:ext cx="822492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6C98A-0890-41F2-86FB-550063C70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6840" y="90000"/>
            <a:ext cx="8224920" cy="974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7B8A6-29C3-4BD2-A2FC-EF30F0566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90000"/>
            <a:ext cx="822492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1720" y="1980720"/>
            <a:ext cx="4013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220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4F361-E585-4EFE-A8B0-26BE4C25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90000"/>
            <a:ext cx="822492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3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1720" y="1980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1720" y="419220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72A1E-4395-47CA-B8F7-C660A639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90000"/>
            <a:ext cx="822492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1720" y="1980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192200"/>
            <a:ext cx="8224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6C1AA-52B2-4EE5-A06D-AABCDE6E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9058178-F5C9-4465-98B9-56F96F954985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3"/>
          <p:cNvGrpSpPr/>
          <p:nvPr/>
        </p:nvGrpSpPr>
        <p:grpSpPr>
          <a:xfrm>
            <a:off x="0" y="0"/>
            <a:ext cx="9142200" cy="544680"/>
            <a:chOff x="0" y="0"/>
            <a:chExt cx="9142200" cy="544680"/>
          </a:xfrm>
        </p:grpSpPr>
        <p:sp>
          <p:nvSpPr>
            <p:cNvPr id="3" name="Rectangle 4"/>
            <p:cNvSpPr/>
            <p:nvPr/>
          </p:nvSpPr>
          <p:spPr>
            <a:xfrm>
              <a:off x="0" y="0"/>
              <a:ext cx="285480" cy="532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5"/>
            <p:cNvSpPr/>
            <p:nvPr/>
          </p:nvSpPr>
          <p:spPr>
            <a:xfrm>
              <a:off x="412560" y="134640"/>
              <a:ext cx="8729640" cy="273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6"/>
            <p:cNvSpPr/>
            <p:nvPr/>
          </p:nvSpPr>
          <p:spPr>
            <a:xfrm>
              <a:off x="409320" y="134640"/>
              <a:ext cx="137520" cy="140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7"/>
            <p:cNvSpPr/>
            <p:nvPr/>
          </p:nvSpPr>
          <p:spPr>
            <a:xfrm>
              <a:off x="547200" y="0"/>
              <a:ext cx="139320" cy="1375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8"/>
            <p:cNvSpPr/>
            <p:nvPr/>
          </p:nvSpPr>
          <p:spPr>
            <a:xfrm>
              <a:off x="547200" y="134640"/>
              <a:ext cx="139320" cy="140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9"/>
            <p:cNvSpPr/>
            <p:nvPr/>
          </p:nvSpPr>
          <p:spPr>
            <a:xfrm>
              <a:off x="274320" y="273600"/>
              <a:ext cx="136080" cy="1375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0"/>
            <p:cNvSpPr/>
            <p:nvPr/>
          </p:nvSpPr>
          <p:spPr>
            <a:xfrm>
              <a:off x="131400" y="136080"/>
              <a:ext cx="140760" cy="1375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1"/>
            <p:cNvSpPr/>
            <p:nvPr/>
          </p:nvSpPr>
          <p:spPr>
            <a:xfrm>
              <a:off x="409320" y="270720"/>
              <a:ext cx="137520" cy="1375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2"/>
            <p:cNvSpPr/>
            <p:nvPr/>
          </p:nvSpPr>
          <p:spPr>
            <a:xfrm>
              <a:off x="274320" y="408600"/>
              <a:ext cx="136080" cy="1360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6840" y="90000"/>
            <a:ext cx="822492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6840" y="1980720"/>
            <a:ext cx="82249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3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9999cc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"/>
          <p:cNvGrpSpPr/>
          <p:nvPr/>
        </p:nvGrpSpPr>
        <p:grpSpPr>
          <a:xfrm>
            <a:off x="0" y="0"/>
            <a:ext cx="9142200" cy="6856560"/>
            <a:chOff x="0" y="0"/>
            <a:chExt cx="9142200" cy="6856560"/>
          </a:xfrm>
        </p:grpSpPr>
        <p:sp>
          <p:nvSpPr>
            <p:cNvPr id="52" name="Rectangle 2"/>
            <p:cNvSpPr/>
            <p:nvPr/>
          </p:nvSpPr>
          <p:spPr>
            <a:xfrm>
              <a:off x="0" y="0"/>
              <a:ext cx="350460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715760" y="1690200"/>
              <a:ext cx="7426440" cy="25329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" name="Group 4"/>
            <p:cNvGrpSpPr/>
            <p:nvPr/>
          </p:nvGrpSpPr>
          <p:grpSpPr>
            <a:xfrm>
              <a:off x="0" y="1066320"/>
              <a:ext cx="2864520" cy="3155040"/>
              <a:chOff x="0" y="1066320"/>
              <a:chExt cx="2864520" cy="3155040"/>
            </a:xfrm>
          </p:grpSpPr>
          <p:sp>
            <p:nvSpPr>
              <p:cNvPr id="55" name="Rectangle 5"/>
              <p:cNvSpPr/>
              <p:nvPr/>
            </p:nvSpPr>
            <p:spPr>
              <a:xfrm>
                <a:off x="572400" y="3580920"/>
                <a:ext cx="575640" cy="6404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Rectangle 6"/>
              <p:cNvSpPr/>
              <p:nvPr/>
            </p:nvSpPr>
            <p:spPr>
              <a:xfrm>
                <a:off x="1714680" y="1689480"/>
                <a:ext cx="573840" cy="642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Rectangle 7"/>
              <p:cNvSpPr/>
              <p:nvPr/>
            </p:nvSpPr>
            <p:spPr>
              <a:xfrm>
                <a:off x="2279520" y="1066320"/>
                <a:ext cx="585000" cy="6343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Rectangle 8"/>
              <p:cNvSpPr/>
              <p:nvPr/>
            </p:nvSpPr>
            <p:spPr>
              <a:xfrm>
                <a:off x="1140480" y="3580920"/>
                <a:ext cx="583200" cy="6404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Rectangle 9"/>
              <p:cNvSpPr/>
              <p:nvPr/>
            </p:nvSpPr>
            <p:spPr>
              <a:xfrm>
                <a:off x="2279520" y="1689480"/>
                <a:ext cx="585000" cy="642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Rectangle 10"/>
              <p:cNvSpPr/>
              <p:nvPr/>
            </p:nvSpPr>
            <p:spPr>
              <a:xfrm>
                <a:off x="1140480" y="2322720"/>
                <a:ext cx="583200" cy="6325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Rectangle 11"/>
              <p:cNvSpPr/>
              <p:nvPr/>
            </p:nvSpPr>
            <p:spPr>
              <a:xfrm>
                <a:off x="0" y="2322720"/>
                <a:ext cx="581760" cy="6325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Rectangle 12"/>
              <p:cNvSpPr/>
              <p:nvPr/>
            </p:nvSpPr>
            <p:spPr>
              <a:xfrm>
                <a:off x="1714680" y="2322720"/>
                <a:ext cx="573840" cy="6325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Rectangle 13"/>
              <p:cNvSpPr/>
              <p:nvPr/>
            </p:nvSpPr>
            <p:spPr>
              <a:xfrm>
                <a:off x="572400" y="2946240"/>
                <a:ext cx="575640" cy="6436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Rectangle 14"/>
              <p:cNvSpPr/>
              <p:nvPr/>
            </p:nvSpPr>
            <p:spPr>
              <a:xfrm>
                <a:off x="1140480" y="2946240"/>
                <a:ext cx="583200" cy="6436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286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678E8DD-A8E5-4BB7-A026-3A75B8FEE412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4880" cy="22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3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9999cc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52640" y="1631520"/>
            <a:ext cx="629136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Основные направления работы педагогического коллектива ДОУ, реализующего инклюзивную практику</a:t>
            </a:r>
            <a:r>
              <a:rPr b="0" lang="en-GB" sz="4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2916000" y="4797000"/>
            <a:ext cx="601956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Ежова Н.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учитель - дефектолог ЦПМС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2249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ельная наполняемость в группах комбинированной направле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2249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27600" indent="0">
              <a:lnSpc>
                <a:spcPct val="7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 3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 детей, в том числе не более 3 детей с ограниченными возможностями здоровь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рше 3 л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 детей, в том числе не более 3 глухих детей, или слепых детей, и детей с нарушениями опорно-двигательного аппарата, или детей  с умственной отсталостью — умеренной, тяжелой, или детей со сложным дефект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5 детей, в том числе не более 4 слабовидящих и (или) детей с амблиопией и косоглазием, или слабослышащих детей, или детей, имеющих тяжелые нарушения речи, или детей с умственной отсталостью легкой степен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7 детей, в том числе не более 5 детей с задержкой психического разви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7600" indent="0">
              <a:lnSpc>
                <a:spcPct val="7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7600" indent="0" algn="r">
              <a:lnSpc>
                <a:spcPct val="7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тановление Правительства РФ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0" algn="r">
              <a:lnSpc>
                <a:spcPct val="7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 12 сентября 2008 г. N 66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0" algn="r">
              <a:lnSpc>
                <a:spcPct val="7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"Об утверждении Типового положения о дошкольном образовательном учреждении"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691920"/>
            <a:ext cx="82249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 направления работы педагогического коллектива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инклюзивной групп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49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агностика индивидуальных особенностей развития каждого ребен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лексная оценка ресурсов и дефицитов ребенка для составления индивидуального образовательного маршрута и индивидуальной образовательной програм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нирование образовательного процесса с учетом индивидуальных образовательных потребностей детей групп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я совместной жизнедеятельности детей в условиях инклюзивной групп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ниторинг инклюзивного образовательного проце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60280"/>
            <a:ext cx="82249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граммы воспитания и обучения детей с ОВ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224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От рождения до школы» под ред. Н.Е. Вераксы, Т. С. Комаровой, М.А. Васильев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Детство» под ред. Т. И. Бабаевой, З.А. Михайловской, Л.М. Гурович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Программа воспитания и обучения дошкольников с интеллектуальной недостаточностью» Л. Б. Баряевой, О. П. Гаврилушкиной, А. П. Зарина, Н.Д. Соколово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Программу логопедической работы по преодолению фонетико-фонематического недоразвития у детей» Т. Б. Филичевой, Г. В. Чиркино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Программа логопедической работы по преодолению общего недоразвития речи у детей» Т. Б. Филичевой, Г. В. Чиркиной, Т. В. Туманово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рамма М.  Монтессор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рамма ранней педагогической помощи детям с отклонениями в развитии «Маленькие ступеньки»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10920" y="549360"/>
            <a:ext cx="82249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чи организации совместной жизнедеятельности детей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инклюзивной групп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82249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4360" indent="-32436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ие общности детей и взрослых, основанной на уважении и интересе к личности каждого члена группы, к его индивидуальным особенностя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360" indent="-32436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умения устанавливать и поддерживать отношения с разными людьми (младшими, сверстниками, старшими, взрослым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360" indent="-32436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умения поддерживать друг друг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360" indent="-32436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коммуникативных навыков и культуры общения, создание позитивного эмоционального настро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360" indent="-32436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тивизация способностей выбирать, планировать собственную деятельность, договариваться с другими о совместной деятельности, распределять роли и обязан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360" indent="-32436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умений и навыков в игровой, познавательной, исследовательск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360" indent="-32436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навыков саморегуляции и самообслуживания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224920" cy="11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ормы работы в группах, реализующих инклюзивную практику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99920"/>
            <a:ext cx="822492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дивидуальные занятия со специалист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ация предметно-развивающей сре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местная деятельность в микрогруппах с другими детьм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ронтальные занят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ация взаимодействия в детско-родительских групп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здники, конкурсы, экскурсии, походы выходного дня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822492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нципы организаци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метно-развивающей сред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49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а должна быть безопасн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а должна быть комфортной и уютн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а организуется в каждой группе в соответствии с возрастными закономерностями развития детей и их интерес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а должна давать возможность проявлять активность, работать как в сотрудничестве, так и самостоятельн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вающая среда группы должна быть вариативн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а должна быть информативн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а должна постоянно обновляться вслед за изменением интересов и образовательных потребностей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920" y="549360"/>
            <a:ext cx="86421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93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казатели эффективности инклюзивного образовательного проце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915920"/>
            <a:ext cx="822492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спешность реализации индивидуальных образовательных маршрутов и индивидуальных образовательных маршрутов и индивидуальных образовательных программ для детей с ОВЗ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довлетворенность инклюзивным процессом у его участников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вышение числа выпускников с ОВЗ, продолживших индивидуально-образовательный маршрут в общеобразовательной или специальной (коррекционной) школ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вышение квалификации сотрудников ДО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Структурные подразделения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ДО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Центр игровой поддержки разви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Консультативный пун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Лекот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Служба ранней помощ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Групп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тия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«Особый ребено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Инклюзивная групп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Содержание деятельност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консультативного пункта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3628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оказание психолого-педагогической помощи родителям (законным представителям), поддержка всестороннего развития личности детей,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не посещающих образовательные учреждения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Направления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 деятельност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оказание помощи родителям и детям 5—6 лет, не посещающим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У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в обеспечении равных стартовых возможностей при поступлении в школ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оказание консультативной помощи родителям по вопросам воспитания, обучения и развития дошкольни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содействие социализации детей дошкольного возрас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проведение комплексной профилактики различных отклонений в физическом, психическом и социальном развитии де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обеспечение взаимодействия между ДОУ и другими организациями социальной и медицинской поддержки детей и род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914400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Служба ранней помощ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9640" y="904680"/>
            <a:ext cx="8229600" cy="64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психолого-педагогическая и социальная поддержка семьи, имеющей ребенка раннего возраста с выявленными нарушениями развития (риском нарушения),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не посещающего образовательное учреждение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коррекция отклонений в развит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держание деятельности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проведение психолого-педагогического обследования детей с нарушениями развития (риском нарушения) и их сем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оказание комплексной коррекционно-развивающей помощи детям с нарушениями развития (риском нарушения) и психолого-педагогической поддержки их семья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осуществление работы по адаптации, социализации и интеграции детей с нарушениями развития (риском нарушения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включение родителей (законных представителей) в процесс воспитания и обучения ребен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определение дальнейшего образовательного маршрута ребенка.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Лекот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920" y="843120"/>
            <a:ext cx="8642160" cy="60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психолого-педагогического сопровождения детей в возрасте от 2 месяцев до 7 лет, </a:t>
            </a:r>
            <a:r>
              <a:rPr b="0" lang="en-GB" sz="1900" spc="-1" strike="noStrike" u="sng">
                <a:solidFill>
                  <a:srgbClr val="000000"/>
                </a:solidFill>
                <a:uFillTx/>
                <a:latin typeface="Arial"/>
              </a:rPr>
              <a:t>которые не могут посещать государственные образовательные учреждения по состоянию здоровья или развития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для социализации,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формирование предпосылок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учебной деятельности и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казание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психолого-педагогической помощи родителям (законным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едставителям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).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Содержание деятельности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реализация индивидуальной образовательной программы, принимаемой лекотекой самостоятельно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проведение психокоррекции средствами игры у детей с нарушениями развития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обучение родителей, специалистов ГОУ методам игрового взаимодействия с детьми, имеющими нарушения в развитии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проведение психопрофилактической работы с членами семей детей с нарушением развития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психолого-педагогическое обследование детей с нарушениями развития (при наличии согласия родителей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помощь родителям (законным представителям) в подборе адекватных средств общения с ребенком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подбор индивидуальных техник формирования у детей предпосылок учебной деятельност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8893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Ресурсы лекоте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6000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Игра - основной метод лекоте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Деятельность лекотеки связана с использованием вспомогательных средств, обеспечивающих полноценное вовлечение ребенка с особыми нуждами и окружающих его людей в игровую активность для обучения и развития общения в игр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Вспомоательные средства должны перекрывать все основные потребности ребенка с особыми нуждами, связанные с организацией его игровой деятель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02000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spcBef>
                <a:spcPts val="2475"/>
              </a:spcBef>
              <a:spcAft>
                <a:spcPts val="2475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DejaVu Sans"/>
              </a:rPr>
              <a:t>Материальная база лекоте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14720" cy="54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4440" indent="-33444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специальное оборудование для детей с нарушениями движ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оборудование для развития общей подвиж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игрушки для развития ручных навы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игрушки для развития тактильного восприят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игрушки и средства для развития зрительного восприят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игрушки для развития слухового восприят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игрушки для развития мышл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игрушки для развития речи и язы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игрушки для поддержки социально-эмоционального развит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2920" y="1125360"/>
            <a:ext cx="40150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27600" indent="-32760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игрушки для игры с водо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игрушки для игры с сыпучими материал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материалы для изобразительного творче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музыкальные игруш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книги для де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фоноте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видеоте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компьютерные игр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книги для родител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средства для развития невербальной коммуник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выставка самодельных игруше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9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специальное оборудование для слепых детей и детей со сложным дефек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DejaVu Sans"/>
              </a:rPr>
              <a:t>Группа развития «Особый ребено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Цель 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оказание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DejaVu Sans"/>
              </a:rPr>
              <a:t>детям – инвалидам</a:t>
            </a:r>
            <a:r>
              <a:rPr b="0" lang="ru-RU" sz="20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в возрасте от 3 месяцев до 7 лет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DejaVu Sans"/>
              </a:rPr>
              <a:t>систематической </a:t>
            </a: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психолого-медико-педагогической помощи, формирование предпосылок учебной деятельности, социальной </a:t>
            </a:r>
            <a:r>
              <a:rPr b="0" lang="ru-RU" sz="2000" spc="-1" strike="noStrike">
                <a:solidFill>
                  <a:srgbClr val="000000"/>
                </a:solidFill>
                <a:latin typeface="DejaVu Sans"/>
              </a:rPr>
              <a:t>адаптации детей-инвалидо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группе сверстников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без индивидуального сопровождения взрослого</a:t>
            </a: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, содействие родителям в организации воспитания и обучения </a:t>
            </a:r>
            <a:r>
              <a:rPr b="0" lang="ru-RU" sz="2000" spc="-1" strike="noStrike">
                <a:solidFill>
                  <a:srgbClr val="000000"/>
                </a:solidFill>
                <a:latin typeface="DejaVu Sans"/>
              </a:rPr>
              <a:t>детей</a:t>
            </a: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DejaVu Sans"/>
              </a:rPr>
              <a:t>Содержание деятельности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дение коррекционно-развивающих групповых и индивидуальных занятий, направленных на развитие коммуникативной, познавательной и иных сфер с целью максимальной социально-эмоциональной адаптации ребенка в среде сверстни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готовка ребенка с ОВЗ к включению в инклюзивную групп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дение консультативной работы с родител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2249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клюзивная группа ДО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22492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вместное воспитание и образование здоровых детей и детей с ограниченными возможностями здоров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7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держание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уществление развивающей деятельности (развитие речи и представлений об окружающем мире, развитие познавательной сферы, игровой, исследовательской, проектной, графической, конструктивной деятельности и т.д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циализация в условиях совместного обучения и воспитания детей с ОВЗ и обычно развивающихся сверстни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ализация коррекционной деятельности специалистов (учитель-логопед, учитель-дефектолог, педагог-психолог, массажист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3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ализация программ творческого развития детей (керамическая мастерская, хореография, музыкально-ритмические занятия, игротерапия и др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лушатель курсов</dc:creator>
  <dc:description/>
  <dc:language>en-US</dc:language>
  <cp:lastModifiedBy>user</cp:lastModifiedBy>
  <dcterms:modified xsi:type="dcterms:W3CDTF">2014-09-30T08:45:32Z</dcterms:modified>
  <cp:revision>2</cp:revision>
  <dc:subject/>
  <dc:title>Основные направления работы педагогического коллектива ДОУ, реа</dc:title>
</cp:coreProperties>
</file>