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-360" y="-11984040"/>
            <a:ext cx="360" cy="253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0" y="-11984040"/>
            <a:ext cx="1440" cy="253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DE02-C2FB-4848-B1F5-11904E9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46B0-D77B-4CB8-AA8F-0CA3F90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943F-9CFA-4D69-9666-D3C057F1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C6EA-B03B-4F83-B74F-11E9E166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4D1-9A43-4B35-A45B-B1D5EC9C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D13F-AA10-48F8-A632-73975059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6AB6-2085-4185-BDD3-75431D76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14C1-6E37-4644-95A0-2EC09B2D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A71D-178F-4F36-AE05-A043EF7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FAEC-5AB5-40FA-93D1-0A54DDC1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4466-BE9F-4824-A2BC-62360473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9AF4-9C27-41BB-89FF-DC235A57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36D-0014-47E3-B0E6-DC0E1B1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CEFD-75F3-4E9B-A1F5-AABBD51E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A7A-25A5-4D7C-8206-F8EAA1E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47C-48B2-458F-8AD8-5CAA0F5B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B11B-90EC-4337-866E-8A0F6D32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34DD-7005-4EDF-ADCD-67660B4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8D06-9424-43A1-AFB3-378F17B8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6A63-F6AB-4635-BC0D-3250DE15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D3F2-A8C6-4721-91B5-06E30883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7A84-2327-4968-8BA8-94D3FE8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A298-CF08-4C8B-BFD6-4BC77FD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9AF0-DCE8-42F9-B628-88D41A2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8CDC8A-1CC0-4487-8A69-D177B259132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BE6B52-CD67-4416-90F8-BDA22458BB5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48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2640" y="1631520"/>
            <a:ext cx="6291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Основные направления работы педагогического коллектива ДОУ, реализующего инклюзивную практику</a:t>
            </a: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916000" y="4797000"/>
            <a:ext cx="6019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Ежова Н.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читель - дефектолог ЦПМ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ельная наполняемость в группах комбинированной направ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24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детей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е 3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глухих детей, или слепых детей, и детей с нарушениями опорно-двигательного аппарата, или детей  с умственной отсталостью — умеренной, тяжелой, или детей со сложным дефек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детей, в том числе не более 4 слабовидящих и (или) детей с амблиопией и косоглазием, или слабослышащих детей, или детей, имеющих тяжелые нарушения речи, или детей с умственной отсталостью легкой степ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детей, в том числе не более 5 детей с задержкой 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12 сентября 2008 г. N 6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Об утверждении Типового положения о дошкольном образовательном учреждении"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направления работы педагогического коллектив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индивидуальных особенностей развития каждого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ресурсов и дефицитов ребенка для составления индивидуального образовательного маршрута и индивидуаль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с учетом индивидуальных образовательных потребностей дет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вместной жизнедеятельности детей в условиях инклюзивно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нклюзивного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4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воспитания и обучения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24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 рождения до школы» под ред. Н.Е. Вераксы, Т. С. Комаровой, М.А. Василье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тво» под ред. Т. И. Бабаевой, З.А. Михайловской, Л.М. Гурови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воспитания и обучения дошкольников с интеллектуальной недостаточностью» Л. Б. Баряевой, О. П. Гаврилушкиной, А. П. Зарина, Н.Д. Сокол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у логопедической работы по преодолению фонетико-фонематического недоразвития у детей» Т. Б. Филичевой, Г. В. Чирк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логопедической работы по преодолению общего недоразвития речи у детей» Т. Б. Филичевой, Г. В. Чиркиной, Т. В. Туман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М.  Монтесс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нней педагогической помощи детям с отклонениями в развитии «Маленькие ступеньки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224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организации совместной жизнедеятельности дет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24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бщности детей и взрослых, основанной на уважении и интересе к личности каждого члена группы, к его индивидуальным особен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устанавливать и поддерживать отношения с разными людьми (младшими, сверстниками, старшими, взросл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поддерживать друг дру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 и культуры общения, создание позитивного эмоционального на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ация способностей выбирать, планировать собственную деятельность, договариваться с другими о совместной деятельности, распределять роли и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й и навыков в игровой, познавательной, исследователь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авыков саморегуляции и самообслужив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49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в группах, реализующих инклюзивную практи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2249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занятия со специали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ая деятельность в микрогруппах с другими деть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онтальны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взаимодействия в детско-родительских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и, конкурсы, экскурсии, походы выходного д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24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но-развивающей сре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безопас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комфортной и ую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организуется в каждой группе в соответствии с возрастными закономерностями развития детей и их интере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давать возможность проявлять активность, работать как в сотрудничестве, так и самостояте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ющая среда группы должна быть вари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информ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постоянно обновляться вслед за изменением интересов и образовательных потреб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ели эффективности инклюзивного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2249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шность реализации индивидуальных образовательных маршрутов и индивидуальных образовательных маршрутов и индивидуальных образовательных программ для детей с ОВ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влетворенность инклюзивным процессом у его участник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числа выпускников с ОВЗ, продолживших индивидуально-образовательный маршрут в общеобразовательной или специальной (коррекционной) школ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квалификации сотрудников Д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труктурные подразделения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Центр игровой поддержк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сультативный пу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ранней помо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клюзивная групп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онсультативного пункта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помощи родителям (законным представителям), поддержка всестороннего развития личности детей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их образовательные учрежде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омощи родителям и детям 5—6 лет, не посещающ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в обеспечении равных стартовых возможностей при поступлении в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нсультативной помощи родителям по вопросам воспитания, обучения и развития до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одействие социализации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комплексной профилактики различных отклонений в физическом, психическом и социальном развит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беспечение взаимодействия между ДОУ и другими организациями социальной и медицинской поддержки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лужба ранне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904680"/>
            <a:ext cx="822960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психолого-педагогическая и социальная поддержка семьи, имеющей ребенка раннего возраста с выявленными нарушениями развития (риском нарушения)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его образовательное учреждени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коррекция отклонений в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психолого-педагогического обследования детей с нарушениями развития (риском нарушения) и их сем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мплексной коррекционно-развивающей помощи детям с нарушениями развития (риском нарушения) и психолого-педагогической поддержки их сем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существление работы по адаптации, социализации и интеграции детей с нарушениями развития (риском наруш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ключение родителей (законных представителей) в процесс воспитания и обуч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пределение дальнейшего образовательного маршрута ребенка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843120"/>
            <a:ext cx="8642160" cy="60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го сопровождения детей в возрасте от 2 месяцев до 7 лет,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которые не могут посещать государственные образовательные учреждения по состоянию здоровья или развития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для социализации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ирование предпосылок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учебной деятельности и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казание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й помощи родителям (законным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ителям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реализация индивидуальной образовательной программы, принимаемой лекотекой самостоятель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коррекции средствами игры у детей с нарушениями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обучение родителей, специалистов ГОУ методам игрового взаимодействия с детьми, имеющими нарушения в развит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профилактической работы с членами семей детей с нарушением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е обследование детей с нарушениями развития (при наличии согласия родителе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мощь родителям (законным представителям) в подборе адекватных средств общения с ребен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дбор индивидуальных техник формирования у детей предпосылок учебн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есурсы лек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0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Игра - основной метод лек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Деятельность лекотеки связана с использованием вспомогательных средств, обеспечивающих полноценное вовлечение ребенка с особыми нуждами и окружающих его людей в игровую активность для обучения и развития общения в иг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спомоательные средства должны перекрывать все основные потребности ребенка с особыми нуждами, связанные с организацией его игров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200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spcBef>
                <a:spcPts val="2475"/>
              </a:spcBef>
              <a:spcAft>
                <a:spcPts val="24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Материальная база лекот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472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детей с нарушениями дви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борудование для развития общей подви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учны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такти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и средства для развития зрите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слухов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ечи и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поддержки социально-эмоциона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1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вод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сыпучими матери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териалы для изобразительного 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узыкальные игру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фон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иде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мпьютер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редства для развития невербальной коммун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тавка самодельных игр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слепых детей и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Группа развития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оказа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DejaVu Sans"/>
              </a:rPr>
              <a:t>детям – инвалидам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 возрасте от 3 месяцев до 7 лет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DejaVu Sans"/>
              </a:rPr>
              <a:t>систематической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психолого-медико-педагогической помощи, формирование предпосылок учебной деятельности, социальной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адаптации детей-инвалид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уппе сверстнико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 индивидуального сопровождения взрослого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, содействие родителям в организации воспитания и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детей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DejaVu Sans"/>
              </a:rPr>
              <a:t>Содержание деятельност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ррекционно-развивающих групповых и индивидуальных занятий, направленных на развитие коммуникативной, познавательной и иных сфер с целью максимальной социально-эмоциональной адаптации ребенка в среде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ебенка с ОВЗ к включению в инклюзивную гру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нсультативной работ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люзивная группа ДО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249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е воспитание и образование здоровых детей и детей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развивающей деятельности (развитие речи и представлений об окружающем мире, развитие познавательной сферы, игровой, исследовательской, проектной, графической, конструктивной деятельност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изация в условиях совместного обучения и воспитания детей с ОВЗ и обычно развивающихся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коррекционной деятельности специалистов (учитель-логопед, учитель-дефектолог, педагог-психолог, массажис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рограмм творческого развития детей (керамическая мастерская, хореография, музыкально-ритмические занятия, игротерапия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 курсов</dc:creator>
  <dc:description/>
  <dc:language>en-US</dc:language>
  <cp:lastModifiedBy>user</cp:lastModifiedBy>
  <dcterms:modified xsi:type="dcterms:W3CDTF">2014-09-30T08:45:32Z</dcterms:modified>
  <cp:revision>2</cp:revision>
  <dc:subject/>
  <dc:title>Основные направления работы педагогического коллектива ДОУ, реа</dc:title>
</cp:coreProperties>
</file>