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A63-4807-4668-B675-95175472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1F9-79B3-4854-8253-6CC42828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4BA-885C-4EC9-83C5-74804DE4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11E-D6F5-4050-82D8-07A6BEFE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F66-09B1-42F7-BC02-AF29AF4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1403-BE68-4EFC-93DE-FDE19309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C9A-9F24-4627-9030-68E4172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F02-3ADC-4961-89BB-720EEC0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420A-7995-439F-BC65-CCCDC281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3CC6-D813-4B9C-A5CC-54B9A03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D3D-C579-42A5-80DA-1FE7CAE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151-566E-412E-8F85-CD6F0963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12F1-9E10-4E63-9745-49F4397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EE9-2BDE-4904-A4A3-352B6DE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556-082F-4BC2-8D37-D95FE351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4C3-5AED-46EA-9672-B5DE333C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A7C4-FCCA-4974-9CFE-0334E080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60D-53A4-4D17-80D3-AE390FE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AA9-65F1-46CD-8269-45CF0B9B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C23-1F9F-4E0B-96D3-3DBA4E2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253-DC58-4B86-A7D9-B5441E1A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33F-F25B-4291-B1CA-9217471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FD9-1C45-4FA8-A5A6-BF5F5AF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298-ADFB-4A4F-AEE4-E5C4A3B3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F1B-E4B8-4B96-A803-749CCF1CF9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B0A-E978-4CA9-9170-2BA3596C5A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рекционно-педагогическое и социально-психологическое сопровождение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спит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формирования ценностного отношения к тому или иному предмету, явлению, совершенствования моделей поведения, овладения детьми коммуникативными умениями, развития социальной активности и т.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ко ориентируют педагога на развитие психических процессов, эмоционально-волевой сферы ребенка, на исправление и компенсацию имеющихся недостатков специальными педагогическими и психологическими при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ны быть предельно конкретными и направленными на активизацию тех психических функций, которые будут максимально задействован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коррекционных задач предполагает включение в урок специальных коррекционно-развивающих упражнений для совершенствования высших психических функций, эмоционально-волевой, познавательной сфер и пр., включение заданий с опорой на несколько анализаторов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пределить коррекционные задач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ланировании уроков, индивидуальных и групповых занятий, проектировании программно-планирующей документации педагогу следует ответить на вопрос: «По каким направлениям будет проходить коррекционная работа на занятии в связи с изучаемым материало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72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 постановк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х зада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развивать (способствовать развитию) слуховое восприятие учащихся на основе упражнений в узнавании и соотне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корректировать зрительное восприятие на основе упражнений н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р постановки коррекционных задач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ть коррекцию пространственного восприятия при соотнесении объемных геометрических тел и их контурных изобра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коррекции тонких дифференцированных движений пальцев рук при выкладывании вертикальных построек из палоч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процессов памяти (узнавания) на основе использования различных анализатор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циальной ситуации развития ребенка (круг общения, характер взаимоотношений в системе «взрослый-ребенок», «ребенок-ребенок»). Негативно влияют на развитие ребенка  дефицит общения, травмирующее действие социальной микросре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т состояния здоровья (соматического и нервно-психического), повышенной утомляемости детей в процессе интеллекту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нение широкой наглядности и словесной конкретизации общих положений с большим количеством упражнений, выполнение которых опирается на прямой показ приемов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ние должно быть умеренной трудности, но доступным, так как на первых этапах коррекционной работы необходимо обеспечить ученику субъективное переживание успеха на фоне определенной затраты усил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епенное сокращение помощи со стороны и постепенное повышение трудности предлагаемых для решения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ность на формирование ведущей деятельности, а также других, типичных для данного возраста видов деятельности. Негативно сказывается на развитии ребенка отсутствие полноценной, соответствующей его возрасту деятельности, которая обеспечивает «присвоение» и смену ведущего вида деятельности на каждом возрастном эта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дивидуализация обучения, ориентированная на учете индивидуально-психологических особенностей ребе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лов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ым является активное воздействие на умственное развитие детей, а не пассивное приспособление к слабым сторонам их псих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ткое преставление о том, какую функцию у ребенка следует развивать на уроке, индивидуальном коррекционном занят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ализация комплексного подхода в процессе коррекции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атическое отслеживание уровня развития психических проце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коррекционной раб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мыслительны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азличных видов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речи, овладение техни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ие представлений об окружающем мире и обогащение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индивидуальных пробелов в зн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двигательной сферы и сенсомотор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лкой моторики кисти и пальцев ру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навыков каллиграф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зрительного анализа и пространственного восприятия элементов бук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тонкости и дифференцированности анализа зрительно воспринимаемы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мения организации и контроля простейших двигательных програ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овия успешности сопровождения обучающихся с задержкой псих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 образовательном учреждении системы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х особенностей обучающихся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коррекционной работы средствами учебных дисциплин и силами узких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индивидуальных и групповых коррекционных занятий общеразвивающей и предметн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вание контурных, силуэтных, перечеркнутых изображений, недорисованных предм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ные изображения (найди отлич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ые изображения (дорису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гурно-фоновое различие предметов,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сложного образ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я сходства и различия двух изобра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оответствия фоновых элементов, узоров (игра «Подбери узор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ленение зрительно воспринимаемого элемента буквы в фигурах сложной конфигу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среди рядов повторяющихся фигур, букв их заданного сочетания; нахождение букв с заданным элемен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хождение заданного элемента в ряду бук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рисование фигур по то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отдельных сторон псих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го восприятия и узна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зрительной памяти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общенных представлений о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 и ори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едставлений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лухового внимания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онетико-фонематических представлений, формирование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72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ние пространственных представ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схеме собственно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ориентировки в ближайшем окружении (клас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на плоскости (тетрадь, кни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1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основных мыслительных операций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соотносите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 группировки и классификации (на базе овладения основными родовыми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работать по словесной и письменной инструкции,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я планировать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бинатор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различных видов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глядно-образн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ловесно-логического мышления (умение видеть и устанавливать логические связи между предметами, явлениями и собы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программирования и контроля соб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яция простейших двиг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риентировки в зад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планирования этапов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основных способов самоконтроля каждого этапа выполнения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мения осуществлять словесный отчет о совершаемом действии и результ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26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инструкции к заданию, образца: «Что мне нужно с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каждого шага предстоящей работы: «Что я буду делать сначала? Что я сделаю потом? Что мне нужно сделать да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работы: «Сравнение с образц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и исправление ошибок: «Что нужно исправи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регуляция действий: «Как я выполнял работу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 эмоционально-личност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аксационные упражнения для мимики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итуации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491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развитию пространственно-временной ориентир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руку по схеме способом на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ногу по отпечатку следов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числовыми ря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дикт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схеме собственно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 комнаты,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ространственного расположения элементов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арточек-опор с названием дней недели, месяцев, времен год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 развитию произвольности вним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ить  склеенные между собой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овторяющиес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 таблице Бурдона (зачеркнуть определенные 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обучения детей с задержкой психического развития на основе индивидуальных 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при выполнении различных заданий с постепенным повышением уровня сложности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ция обучающихся с ограниченными возможностями здоровья в среду нормально развивающихся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ресурсов семьи ребенка с задержкой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памя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ровка произвольного запоминания зрительно воспринимаем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запоминание слухового ряда: цифр, звуков, слов, предложений, многоступенчат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предмет сред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порны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ирование с закрыты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адай фигуру (на ощупь с закрытыми глаз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 третье слово (яйцо-курица (цыпленок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рекционные прием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азвитию мыслительных опер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ови одним с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лючи лиш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общи по видовому понят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ой объем видового пон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и временные и причинно-следственные зависимости (продолжи предложение: Мама выключила свет, потому что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ов по наблюдениям в природе, по сюжетным кар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лана текста, экскурсии, п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предмета по картинн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коррекционная работа с обучающимися с ЗПР базируется на следующих составляющи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до необходимого уровня психофизиологических функций, обеспечивающих готовность к обучению: артикуляционного аппарата, фонематического слуха, мелких мышц руки, оптико-пространственной ориентации, зрительно-моторной координ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щение кругозора детей, формирование отчетливых, разносторонних представлений о предметах и явлениях окружающей действительности, которые способствуют осознанному восприятию ребенком учеб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наниям, полученным на основе практического опыта, т.к. эти знания обогащают содержание обучения непосредственными наблюдениям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й и навыков, необходимых для деятельности любого вида: ориентироваться в задании, планировать предстоящую работу, выполнять ее в соответствии с наглядным образцом и (или) словесными указаниями учителя, осуществлять самоконтроль и самооценку (общие (ключевые) компетен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иление роли общеучебных и общепознавательных способов деятельности: умения наблюдать, анализировать, сравнивать, абстрагировать, обобщать, доказывать, классифицирова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оминать произвольно и опосредованн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содержания учебной деятельности, требующего от детей интеллекту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ация содержания учебного материала, через очищение от сложности подробностей, выделение в каждой теме базового материала, подлежащего многократному закреплению, дифференцировка заданий в зависимости от коррекцио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, комбинация методов и приемов обучения с целью смены видов деятельности детей, изменения доминантного анализатора, включения в работу большинства анализаторов, использование ориентировочной основы действий (опорных сигналов, алгоритмов, образцов выполнения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ение и систематизация словаря и развитие речи средствами всех учеб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задержки психического развития употребляется по отношению к детям с минимальными органическими повреждениями или функциональной недостаточностью центральной нервной системы, а также длительно находящимися в условиях социальной депр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редставляет собой нарушение темпа всего психического развития при наличии значительных потенциальных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«ЗПР» подчеркивает временной (несоответствие уровня психического развития возрасту) и одновременно временный характер отставания (полностью или частично преодолевается под воздействием лечебных и педагогических факторов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медицинского подхода задержка психического развития рассматривается как синдром незрелости психических или психомоторных функций и как проявление замедленного созревания морфофункциональных систем мозга под влиянием неблагоприятны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задержки психического развит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конституциональ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сомат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психогенн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церебрально-органического 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ановка зад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 формулирует три типа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рекционные (коррекционно-развива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зовательные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яют задачи усвоения учебного программного материала, овладения детьми определенными учебными знаниями, умениями и навы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улировка задач отражает содержание занятия (конкрет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еподаватель</cp:lastModifiedBy>
  <dcterms:modified xsi:type="dcterms:W3CDTF">2015-03-14T14:21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